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F848-7D0F-4E35-9981-82E9EDF3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38F5-EF88-4522-BB74-D1870F74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F261-68D1-4BB7-B2E7-FC435D06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75D6-66B0-4BF3-B963-C5A9D1D7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463A-1A57-4480-A7B6-04B3F2B1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189B-6E9E-463E-AEB4-087482CC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A7FB-F9DF-44A3-ABFF-41B7A29A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4559-63AE-4066-BBB2-8BB83D6C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666D-E7E8-498B-84B3-EA4E59A2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B465-353C-4DDF-AF26-7E5B67C2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B221-4852-4B1E-B485-FFEDAC6A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CA1-C722-43E5-911E-54E89969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FF56-6C6D-4427-9AB6-8872EB0C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204D-B487-40F3-8D25-CE2B2F18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9ED3-4728-4BDD-B52B-93AB1D86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A0DF-4B0E-4CAA-AA2C-DDCCCFFB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AFA2-32AF-47F8-9F8D-1990A719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3B85-C3AF-4B97-AB63-502054F7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7C92-C296-4BFB-A4C5-4F864662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AFA9-DF2F-4F36-BC1C-BC4019BC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984-1DB6-424C-AF57-9F9DAF02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11F4-D5D5-445E-8B6F-A7C4844C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D7FC-BDBE-49D6-8C6F-3E5186B3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5F57-70D1-4CF4-98E7-58C4FD9C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9250-56C7-4D6F-93C6-18CAD6AE3E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B7B6-6F49-487A-8623-2AF15964C7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ONCEPTO.ppt" TargetMode="External"/><Relationship Id="rId2" Type="http://schemas.openxmlformats.org/officeDocument/2006/relationships/hyperlink" Target="file:///BENEFICIARIOS.ppt" TargetMode="External"/><Relationship Id="rId3" Type="http://schemas.openxmlformats.org/officeDocument/2006/relationships/hyperlink" Target="file:///REGIMENES.ppt" TargetMode="External"/><Relationship Id="rId4" Type="http://schemas.openxmlformats.org/officeDocument/2006/relationships/hyperlink" Target="file:///AFILIACI&#211;N,%20ALTAS%20Y%20BAJAS.ppt" TargetMode="External"/><Relationship Id="rId5" Type="http://schemas.openxmlformats.org/officeDocument/2006/relationships/hyperlink" Target="file:///PRESTACIONES.ppt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Comic Sans MS"/>
              </a:rPr>
              <a:t>LA SEGURIDAD SOCI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0033"/>
                </a:solidFill>
                <a:uFillTx/>
                <a:latin typeface="Comic Sans MS"/>
                <a:hlinkClick r:id="rId1"/>
              </a:rPr>
              <a:t>Concep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0033"/>
                </a:solidFill>
                <a:uFillTx/>
                <a:latin typeface="Comic Sans MS"/>
                <a:hlinkClick r:id="rId2"/>
              </a:rPr>
              <a:t>Beneficiarios/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0033"/>
                </a:solidFill>
                <a:uFillTx/>
                <a:latin typeface="Comic Sans MS"/>
                <a:hlinkClick r:id="rId3"/>
              </a:rPr>
              <a:t>Regímenes</a:t>
            </a: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0033"/>
                </a:solidFill>
                <a:uFillTx/>
                <a:latin typeface="Comic Sans MS"/>
                <a:hlinkClick r:id="rId4"/>
              </a:rPr>
              <a:t>Afiliación, Altas y Baj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0033"/>
                </a:solidFill>
                <a:uFillTx/>
                <a:latin typeface="Comic Sans MS"/>
                <a:hlinkClick r:id="rId5"/>
              </a:rPr>
              <a:t>Prest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Comic Sans MS"/>
              </a:rPr>
              <a:t>CONCEPT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L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Comic Sans MS"/>
              </a:rPr>
              <a:t>Seguridad Social</a:t>
            </a: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 es un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Comic Sans MS"/>
              </a:rPr>
              <a:t>sistema público</a:t>
            </a: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 cuyo objeto es l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Comic Sans MS"/>
              </a:rPr>
              <a:t>protección</a:t>
            </a: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 de las personas incluidas en su campo de aplicación y los familiares a su cargo,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Comic Sans MS"/>
              </a:rPr>
              <a:t>frente</a:t>
            </a: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 determinados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Comic Sans MS"/>
              </a:rPr>
              <a:t>riesgos o contingencias</a:t>
            </a:r>
            <a:r>
              <a:rPr b="0" lang="es-ES_tradnl" sz="3200" spc="-1" strike="noStrike">
                <a:solidFill>
                  <a:srgbClr val="ffffff"/>
                </a:solidFill>
                <a:latin typeface="Comic Sans MS"/>
              </a:rPr>
              <a:t> que les ocasionan situaciones de neces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Comic Sans MS"/>
              </a:rPr>
              <a:t>BENEFICIARIOS/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Todos/as los/as ciudadanos/as españoles/as que residan y ejerzan su actividad en el territorio nacional, así como las personas extranjeras que se encuentren trabajando legalmente en España y que, tanto los unos como los otros, estén incluidos en los siguientes grup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Trabajadores/as por cuenta aje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Trabajadores/as por cuenta prop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Socios/as trabajadores/as de cooperati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Empleados/as del hog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Estudia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Funcionarios/as públicos, civiles y milita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Comic Sans MS"/>
              </a:rPr>
              <a:t>REGIME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GENER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Es el que establece una serie de medidas a favor de los/as trabajadores/as por </a:t>
            </a: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cuenta aje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ESPECI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Trabajadores/as Autónomos/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Empleados/as de hog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Trabajadores/as del m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Funcionarios/as Públicos, civiles y milit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Estudia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Trabajadores/as agrícolas, forestares y pecuari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Comic Sans MS"/>
              </a:rPr>
              <a:t>AFILIACIÓN, ALTAS Y BAJA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AFILIACIÓN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: Acto por el que las persona se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Comic Sans MS"/>
              </a:rPr>
              <a:t>incorporan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 al sistema de la Seguridad Social. Es única para toda la vida del trabajador/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ALTAS: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 Cada vez que el trabajador/a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Comic Sans MS"/>
              </a:rPr>
              <a:t>inicie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una nueva actividad laboral debe ser dado de alta en la S.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BAJAS: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 Cuando el trabajador/a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Comic Sans MS"/>
              </a:rPr>
              <a:t>cese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su actividad laboral debe ser dado de ba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Comic Sans MS"/>
              </a:rPr>
              <a:t>PRESTACIO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capacidad Tempo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atern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capacidad Perman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Jubi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Muerte y Superviv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sempl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ontribu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Asist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48:59Z</dcterms:created>
  <dc:creator>-</dc:creator>
  <dc:description/>
  <dc:language>en-US</dc:language>
  <cp:lastModifiedBy>Profesor</cp:lastModifiedBy>
  <dcterms:modified xsi:type="dcterms:W3CDTF">2008-02-19T09:12:19Z</dcterms:modified>
  <cp:revision>7</cp:revision>
  <dc:subject/>
  <dc:title>LA SEGURIDAD SOCIAL</dc:title>
</cp:coreProperties>
</file>